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EAC-DC71-4CB5-844F-EFF488D1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F59-C25F-42BF-9C3A-89895084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7A7-6E87-4221-AB8A-C21BFC41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689-9F63-4DC8-9823-5525AAA6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6DF-36DC-4709-AD77-9DEE8B4D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370-1C64-480F-8F9F-AC87ADC7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49C-04D7-49C8-BB82-E34A82E0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930-53E8-4349-BB59-4423CF4E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DE2-EED4-4625-9D0E-121D6657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CCE-B842-4424-B7D2-9A3A2423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11E-FD66-44CF-874D-0D4B2C6F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D49-B752-4AC2-B764-4114262B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2D8E-E359-42F4-BF02-3A4F87E9E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oh.govt.nz/obesity" TargetMode="External"/><Relationship Id="rId2" Type="http://schemas.openxmlformats.org/officeDocument/2006/relationships/hyperlink" Target="http://www.moh.govt.nz/obesity" TargetMode="External"/><Relationship Id="rId3" Type="http://schemas.openxmlformats.org/officeDocument/2006/relationships/hyperlink" Target="http://www.moh.govt.nz/obesity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reakingnews.com/Fat-Girl-Pictures-6592.as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-100080"/>
            <a:ext cx="6913800" cy="69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ts…. N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ke notes 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oh.govt.nz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orld Health Organization now describes the prevalence of obesity as an epidemic. There's been a rise in obesity in New Zealand in recent decades - from 9% (males) and 11% (females) in 1977 to 20% and 22% respectively in 2003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2006/07 New Zealand Health Survey found that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three adults were overweight (36.3%) and one in four obese (26.5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five children aged 2 to 14 years were overweight (20.9%) and one in twelve was obese (8.3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t 3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2006/07 New Zealand Health Survey found that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four adults were obese (26.5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1.7% of Māori adults were ob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3.7% of Pacific adults were ob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% of Asian adults were ob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ific men and women were two and a half times more likely to be obese than men and women in the total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āori men and women were one and a half times more likely to be obese than men and women in the total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has been an increase in the prevalence of obesity for men and women from 1997 to 2006/07, adjusted for age, but the rate of increase appears to be sl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t -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2006/07 New Zealand Health Survey found that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twelve children (aged 2 to 14 years) were obese (8.3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five children were overweight (20.9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has been no change in the average (mean)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M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children aged 5-14 years since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has been a decrease in average BMI for Māori children. (but press?????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justed for age, Pacific boys and girls were at least 2.5 times more likely to be obese than boys and girls in the total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āori boys and girls were 1.5 times more likely to be obese than boys and girls in the total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184720" cy="75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at Girl pic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932508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0:45:45Z</dcterms:created>
  <dc:creator>Marcellin College</dc:creator>
  <dc:description/>
  <dc:language>en-US</dc:language>
  <cp:lastModifiedBy>sullivang</cp:lastModifiedBy>
  <dcterms:modified xsi:type="dcterms:W3CDTF">2011-08-24T02:15:05Z</dcterms:modified>
  <cp:revision>6</cp:revision>
  <dc:subject/>
  <dc:title>Slide 1</dc:title>
</cp:coreProperties>
</file>